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media/image18.png" ContentType="image/png"/>
  <Override PartName="/ppt/media/image15.gif" ContentType="image/gif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25B9-9D21-4472-80AC-E4892935A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www.scientificamerican.com/article.cfm?id=1000-genomes-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bc.co.uk/schools/gcsebitesize/science/add_gateway_pre_2011/living/cloningrev4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9reproduction.wikispaces.com/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ailymail.co.uk/sciencetech/article-1131349/Couple-devastated-death-beloved-dog-pay-100-000-clone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celot died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ean company BioArts 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rioslibres.info/coevolution-and-symbiosi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external fertiliz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symbiosis (clownfish eat harmful small invertebrates &amp; are protected from predators and immune to stinging of anemone;  clownfish fecal matter provides nutrients to anem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rsnatzkesbiology.blogspot.ca/2009/11/stages-of-mitosis-and-meiosis_1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utorvista.com/content/biology/biology-iii/cell-reproduction/meiosis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utorvista.com/content/biology/biology-iii/cell-reproduction/meiosis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ol is this animation?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tokyo-med.ac.jp/genet/mfi-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legacy.owensboro.kctcs.edu/gcaplan/anat2/notes/APIINotes2%20meio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; http://smokefurr.proboards.com/index.cgi?board=general&amp;action=display&amp;thread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male or female?  autosome vs. sex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cl.ac.uk/~ucbhjow/medicine/mende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or fem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stroh.wordpress.com/2011/02/28/karyotyp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chem.co/2010/01/dna-mutations-and-genetic-diseas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a 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eingbelongingbecoming.wordpress.com/2011/10/02/strawberry-field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; http://www.sophisticatededge.com/how-do-aphids-reprodu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utorvista.com/content/biology/biology-iii/cell-reproduction/mitosis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ome.comcast.net/~clupold96/notes%20pages/chromosomes_tip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mmortalhumans.com/the-potential-good-of-human-clon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4031-FF72-4B93-8CE6-C151DCF8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326A-CA4D-40C5-AD9A-57AC9994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D19C-88B5-46DE-8388-FB8AE626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F76D-2F6D-4FA0-996C-A687CCE5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B6FA-F067-4B38-B464-B910F61E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6EAE-2D00-4BDC-87EE-8B08BE01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9DD1-2D46-409A-9179-FE102FFA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6FB-7B88-4FE3-9FEE-71927C21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A8F1-0019-4C15-88AB-5797AAFD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4A45-ECF7-4574-A0B0-D121E3A3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33DD-FA61-4196-B281-7315B979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1D77-BE80-43FB-8131-99AB1EF0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EC58-334E-4FA8-92A8-E8B5630CD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dity &amp;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l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35240" y="1981080"/>
            <a:ext cx="6473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809640"/>
            <a:ext cx="77724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Cl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production of prized animals &amp;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ally-modified organisms (GMOs) such as yeast or bacteria for insulin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angered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87520" y="609480"/>
            <a:ext cx="4367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xual Reproduction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(sperm &amp; o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tilization (external &amp; inter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iosis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t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ing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74720" y="609480"/>
            <a:ext cx="5794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14440" y="609480"/>
            <a:ext cx="6313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1255680"/>
            <a:ext cx="77724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rms &amp; Concep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dity &amp; 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&amp;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&amp; l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xual reproduction &amp; sexual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aking Gametes -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at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09680" y="609480"/>
            <a:ext cx="4724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some more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y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ry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24200"/>
            <a:ext cx="8915400" cy="40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84160" y="533520"/>
            <a:ext cx="737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this hap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92240" y="1981080"/>
            <a:ext cx="6958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(through roots or shoots, e.g., strawberry plant, dandelion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ding (e.g., hydra, yea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mentation (e.g., mushroom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17840" y="609480"/>
            <a:ext cx="4108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765000"/>
            <a:ext cx="777240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69920" y="1371600"/>
            <a:ext cx="5278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, Chromat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92200" y="1981080"/>
            <a:ext cx="615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836800" y="1981080"/>
            <a:ext cx="3470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0:48:18Z</dcterms:created>
  <dc:creator>rubina khan</dc:creator>
  <dc:description/>
  <dc:language>en-US</dc:language>
  <cp:lastModifiedBy>rubina khan</cp:lastModifiedBy>
  <dcterms:modified xsi:type="dcterms:W3CDTF">2013-03-06T16:12:09Z</dcterms:modified>
  <cp:revision>28</cp:revision>
  <dc:subject/>
  <dc:title>PowerPoint Presentation</dc:title>
</cp:coreProperties>
</file>